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DB77-1604-42F3-B9F6-8D910780A7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B12A-B58E-4759-9AD5-269832C9BC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D64-EE2E-4A9D-8D72-447674E549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645A-88D7-47F9-8A56-24009CE803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4361-D8C0-4C20-B78D-787A16CE1D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0F31-1DAF-4D81-A93B-FEE63B0E1D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F24-BA5B-476F-8736-2C6367E96D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F8BE-ADAB-4DCF-8972-0A9D4962FF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154B-7735-4B5D-AA46-7C07A8888C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95B-F60C-4C4F-8293-F94D1A75A4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D83-35B9-408C-99B6-0E6A5E04D1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B14-AD1A-44B0-B8E3-0D82C060C7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FF7-7DEC-43FC-93CC-C23FBE4475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458-D03E-4C02-BD8E-42368946F3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9562-31D6-4D7E-9DF9-BA5FBD77C9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337-B498-4BC7-8505-E769615236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DCAC-6174-4AFB-A03C-C1A2506B6B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988-755D-4646-93EF-0D0F00B9FE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F13-94E2-45FD-9B6E-6479E1121B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81E1-0821-4610-AF80-868D176E36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70A-0684-417B-B351-873D232E49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8AF-7E2E-402A-A0FC-59128E0BFD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894-DB8B-486F-815F-C61A737F60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D08-744C-4672-81ED-D988F6FBBD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AFE-BDB3-4D8C-80FB-ED0EF9425F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EAB-BCC3-442E-B2CE-034A6EA702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DD7-848A-4678-96C9-4CFDEA3153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BDD4-A909-4050-99A4-1ED3F213A9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955-F085-4C05-8D0D-32D66959BA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D77-6036-4B86-A3E6-302289A8D2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793-2B10-4473-A502-65E450DD39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5812-2FB8-4082-9623-E5CCAA5B39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3B87-72AC-4BF0-9821-164A1158FC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09B-862A-428A-B829-10F806C8E9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556-1EDA-4157-A809-EC953E5EFA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C9C-AECB-430D-B247-D888E5B4EB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E4C-C296-448E-BEBA-B4DEC9F5B3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2AD-543E-44E8-B0EA-2FD8959412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455A-E7A6-4224-8281-1D2F968BF4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1A0A-2766-4657-9E58-62C5B1587F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32FD-9C24-4AB5-95A7-14FE9E4999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7D5-BB83-4FD1-83F8-917E1C021B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CFF-C764-4D91-B4BA-F6B77A4E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3AC-9262-459E-A57E-070B401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614-1C4D-4DD8-9458-DD3C37C2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234-43DF-4F77-BF9A-ED179603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6D8-9C4B-40C3-8232-5B743281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5C1-10A1-4767-9422-00847496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9FA-E0FB-4DB2-8759-EB1247FE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977-175B-41CC-BF2D-5DCAA34A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E58-1F83-416C-B365-F86C322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BBA-E8CD-4C0C-B939-62BCA00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81C-A741-4DE2-B7F9-4FDACD5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DF2-21CC-4DFE-8AC6-3F68327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537-9DF6-4A7C-BB3E-8E714719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ularz%20OO&#346;-nowa%20wersja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714240" y="1571760"/>
            <a:ext cx="81010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Ocena oddziaływania na środowisko dla projektów współfinansowany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 rama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Regionalnego Programu Operacyjnego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ojewództwa Kujawsko-Pomorskiego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na lat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4286160"/>
            <a:ext cx="6786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a Mane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ząd Marszałkowski 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 Wdrażania Regionalnego Programu Oper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dział Wyboru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uro Oceny Formalnej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3 października 2008 r. o udostępnianiu informacji  o środowisku  i jego ochronie, udziale społeczeństwa ochronie środowiska oraz ocenach oddziaływania na środowisk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. U. Nr 199, poz. 1227) </a:t>
            </a:r>
            <a:r>
              <a:rPr b="0" i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(dalej: ustawa OOŚ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kwietnia 2001 r. - Prawo ochrony środowiska (Dz. U. 08. 25. 15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6 kwietnia 2004 r. o ochronie przyrody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92.88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lipca 1994 r. - Prawo budowlane (Dz. U. 06. 156. 1118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marca 2003 r. o planowaniu i zagospodarowaniu przestrzenn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3. 80.717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4 lutego 1994 r. - Prawo geologiczne i górnicz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28.1947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8 lipca 2001 r. – Prawo wodn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39. 2019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6 marca 1982 r. o scalaniu i wymianie gruntów (Dz. U. 03. 178. 1749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września 1991 r. o lasach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45. 435, z późn. zm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0 kwietnia 2003 r. o szczególnych zasadach przygotowania i realizacji inwestycji w zakresie dróg publicznych (Dz. U. 80. 72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marca 2003 r. o transporcie kolej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7.16. 94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października 1994 r. o autostradach płatnych oraz o Krajowym Funduszu Drog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256. 257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września 2007 r. o przygotowaniu finałowego turnieju Mistrzostw Europy w Piłce Nożnej UEFA EURO 2012 (Dz. U. 173.1219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1 marca 1991 r. o obszarach morskich Rzeczypospolitej Polskiej i administracji morskiej (Dz. U. 03.153.1502, z późn. zm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42960" y="1500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y wykonawcze związane z przeprowadzaniem postępowań Ocen Oddziaływania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14240" y="2714760"/>
            <a:ext cx="821556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ządzenie Rady Ministrów w sprawie rodzajów przedsięwzięć mogących znacząco oddziaływać na środowisko oraz szczegółowych uwarunkowań związanych z kwalifikowaniem przedsięwzięcia do sporządzania raportu oddziaływania na środowisko z dnia 9 listopada 2004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mienione 10. 05. 2005 r. i 21. 08. 2007 r.); (Rozporządzenie OO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14240" y="2000160"/>
            <a:ext cx="82155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8. 06. 2007 r. w sprawie określenia wzoru publicznie dostępnego wykazu danych o dokumentach zawierających informacje o środowisku i jego ochroni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31. 07. 2002 r. w sprawie określenia szczegółowego sposobu funkcjonowania Krajowej Komisji do Spraw Ocen Oddziaływania na Środowisko oraz wojewódzkich komisji do spraw ocen oddziaływania na środowisk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6. 05. 2005 r. w sprawie typów siedlisk przyrodniczych oraz gatunków roślin i zwierząt, wymagających ochrony w formie wyznaczenia obszarów Natura 200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21. 07. 2004 r. w sprawie obszarów specjalnej ochrony ptaków Natura 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zmienione rozporządzeniem z dnia 05. 09. 2007 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42960" y="3286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TĘPOWANIE W SPRAWIE OOŚ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785880" y="1643040"/>
            <a:ext cx="83581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eny oddziaływania wymagają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8"/>
          <p:cNvGrpSpPr/>
          <p:nvPr/>
        </p:nvGrpSpPr>
        <p:grpSpPr>
          <a:xfrm>
            <a:off x="857160" y="1928880"/>
            <a:ext cx="8001000" cy="4295880"/>
            <a:chOff x="857160" y="1928880"/>
            <a:chExt cx="8001000" cy="4295880"/>
          </a:xfrm>
        </p:grpSpPr>
        <p:sp>
          <p:nvSpPr>
            <p:cNvPr id="140" name="Rectangle 25"/>
            <p:cNvSpPr/>
            <p:nvPr/>
          </p:nvSpPr>
          <p:spPr>
            <a:xfrm>
              <a:off x="857160" y="1928880"/>
              <a:ext cx="4938480" cy="14810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z zakresu zagospodaro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zestrzen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polityk, strategii, planów i programów sektorow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innych niż ww., których realizacja moż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wodować znaczące oddziaływanie  na obszar Natura 200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857160" y="3611520"/>
              <a:ext cx="4938480" cy="13474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awsz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 (I grupa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otencjalni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, jeżeli stwierdzony zostani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owiązek przeprowadzenia oceny oddziały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 środowisko (II grup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857160" y="5227560"/>
              <a:ext cx="4938480" cy="9421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inne niż wymienione wyżej (grupa I i II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eżeli mogą znacząco oddziaływać  na obszar Natura  2000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nie są bezpośrednio związane z ochroną tego obsza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b nie wynikają z tej ochro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925320" y="2142360"/>
              <a:ext cx="1931040" cy="10756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zna  oce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ddziaływania 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6925320" y="3611520"/>
              <a:ext cx="1931040" cy="1212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996600" y="5147640"/>
              <a:ext cx="1861560" cy="1077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dsięwzięcia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szar Natura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>
              <a:off x="6144480" y="240948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215400" y="401220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6215400" y="548136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10"/>
          <p:cNvSpPr/>
          <p:nvPr/>
        </p:nvSpPr>
        <p:spPr>
          <a:xfrm>
            <a:off x="857160" y="178596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dsięwzięci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ierzenie budow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inna ingerencja w środowisko polegająca na przekształceniu lub zmianie sposobu wykorzystania terenu, w tym również na wydobywaniu ko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powiązane technologicznie kwalifikuje się jako jedno przedsięwzięcie, także jeżeli są one realizowane etapowo lub/i przez róż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42960" y="17859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cena oddziaływania przedsięwzięcia na środowisko to postępowanie obejmujące w szczegól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1000080" y="2714760"/>
            <a:ext cx="814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ryfikację raportu o oddziaływaniu przedsięwzięcia na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środowisko (OOŚ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zyskanie wymaganych ustawą opinii i uzgodni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pewnienie możliwości udziału społeczeństwa w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postępow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powyższych elementów w postępowaniu świadczy o tym, iż OOŚ nie była prowad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14"/>
          <p:cNvSpPr/>
          <p:nvPr/>
        </p:nvSpPr>
        <p:spPr>
          <a:xfrm>
            <a:off x="8571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 ramach oceny oddziaływania przedsięwzięcia na środowisko określa się, analizuje oraz ocen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12"/>
          <p:cNvSpPr/>
          <p:nvPr/>
        </p:nvSpPr>
        <p:spPr>
          <a:xfrm>
            <a:off x="357120" y="257184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zpośredni i pośredni wpływ danego przedsięwzięci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rodowisko oraz zdrowie i warunki życia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bra materi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ytk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ajemne oddziaływanie między ww. element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do złóż kopa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ożliwości oraz sposoby zapobiegania i zmniejszania negatywnego oddziaływania przedsięwzięcia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ymagany zakres monitor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714240" y="17859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środowisko wymaga realizacja następujących planowanych przedsięwzięć mogących znacząco oddziaływać na środowisko (art. 59 ust 1.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ostokąt 9"/>
          <p:cNvSpPr/>
          <p:nvPr/>
        </p:nvSpPr>
        <p:spPr>
          <a:xfrm>
            <a:off x="785880" y="3071880"/>
            <a:ext cx="8072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aws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tencjal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85880" y="17146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obszar Natura 2000 wymaga realizacja planowanego przedsięwzięcia innego niż mogące znacząco oddziaływać na środowisko jeżeli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art. 59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85880" y="335772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e to może znacząco oddziaływać na obszar Natura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, a nie jest bezpośrednio związane z ochroną tego obszar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nie wynika z tej ochro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owiązek przeprowadzenia oceny oddziaływa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na obszar Natura 2000 został zatwierdzony 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awie art. 96 ust. 1 ustawy O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14240" y="2286000"/>
            <a:ext cx="84297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ena oddziaływania na środowisko (OOŚ) to proces planowania środowiskowego stanowiący podstawę zarządzan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gospodarowania zasobami przyrodniczymi w celu osiągnięcia zrównoważonego rozwo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 ten jest wieloetapowy, zintegrowany z cyklem inwestycyjnym, polegający na określeniu potencjalnych, znaczących konsekwencji planowanych przedsięwzięć dla środowiska przyrodniczego i kulturowego, zdrowia ludzkieg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akże walorów społeczno – ekonomicznych oraz na efektywnym wykorzystywaniu zgromadzonych w jego trakcie informacji podczas podejmowania odpowiednich decyz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781200" y="1500120"/>
            <a:ext cx="836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jważniejsze różnice pomiędzy OOŚ a oceną oddziaływania na obszar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00080" y="2286000"/>
          <a:ext cx="7929720" cy="3857760"/>
        </p:xfrm>
        <a:graphic>
          <a:graphicData uri="http://schemas.openxmlformats.org/drawingml/2006/table">
            <a:tbl>
              <a:tblPr/>
              <a:tblGrid>
                <a:gridCol w="3922920"/>
                <a:gridCol w="40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y z Aneksu I i II dyrektywy O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zystkie projekty i programy nie związane bezpośrednio lub potrzebne do zarządzania obszarem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wpływu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 aspekty środowiska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tura 2000 jest jednym z 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skupia się na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aczącym negatywnym wpływie na integralność obszaru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a kompetentnego organu musi brać pod uwagę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ekty przedsięwzięcia na środowi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dopuszczalność zatwierdzenia projektu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tóry ma znaczący negatywny wpływ na obszar Natura 2000, jeśli istnieją nieszkodliwe alternaty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ę podejmuje kompetentny organ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 wzięciu pod uwagę i rozpatrzeniu wszystkich informacji zgromadzonych w postępowa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sytuacji gdy brak alternatyw, przedsięwzięcie które ma negatywny wpływ na obszar Natura 2000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że być zrealizowane tylko wtedy, gdy spełnione są warunki określone w art. 6.4 Dyrektywy siedlisk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upa 10"/>
          <p:cNvGrpSpPr/>
          <p:nvPr/>
        </p:nvGrpSpPr>
        <p:grpSpPr>
          <a:xfrm>
            <a:off x="642960" y="1571760"/>
            <a:ext cx="8281800" cy="4678200"/>
            <a:chOff x="642960" y="1571760"/>
            <a:chExt cx="8281800" cy="4678200"/>
          </a:xfrm>
        </p:grpSpPr>
        <p:sp>
          <p:nvSpPr>
            <p:cNvPr id="196" name="Text Box 4"/>
            <p:cNvSpPr/>
            <p:nvPr/>
          </p:nvSpPr>
          <p:spPr>
            <a:xfrm>
              <a:off x="642960" y="1571760"/>
              <a:ext cx="82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cenę oddziaływania na środowisko przeprowadza się w ramach (art. 61 ustawy OOŚ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1060560" y="2459520"/>
              <a:ext cx="3299040" cy="20653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ydania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 środowiskowyc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warunkowania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4890600" y="2459520"/>
              <a:ext cx="3789720" cy="2065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ydania pozwolenia na budowę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 zezwole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realizację inwestycji drogowej oraz in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pisanych w art. 72 ustawy O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eżeli została stwierdzona konieczn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prowadzenia OOŚ przez organ właściw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o wydania decyzji o środowiskowyc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warunkowani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1060560" y="4644720"/>
              <a:ext cx="327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łaściw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6"/>
            <p:cNvSpPr/>
            <p:nvPr/>
          </p:nvSpPr>
          <p:spPr>
            <a:xfrm>
              <a:off x="4890600" y="4644720"/>
              <a:ext cx="38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nown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4"/>
            <p:cNvSpPr/>
            <p:nvPr/>
          </p:nvSpPr>
          <p:spPr>
            <a:xfrm>
              <a:off x="1199880" y="5669280"/>
              <a:ext cx="313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organ właściwy do wydania tej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5"/>
            <p:cNvSpPr/>
            <p:nvPr/>
          </p:nvSpPr>
          <p:spPr>
            <a:xfrm>
              <a:off x="4960440" y="5669280"/>
              <a:ext cx="36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Regionalny Dyrektor Ochrony Środowi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AutoShape 22"/>
            <p:cNvGrpSpPr/>
            <p:nvPr/>
          </p:nvGrpSpPr>
          <p:grpSpPr>
            <a:xfrm>
              <a:off x="6602040" y="2103120"/>
              <a:ext cx="329040" cy="359640"/>
              <a:chOff x="6602040" y="2103120"/>
              <a:chExt cx="329040" cy="359640"/>
            </a:xfrm>
          </p:grpSpPr>
          <p:pic>
            <p:nvPicPr>
              <p:cNvPr id="204" name="AutoSha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660204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70752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22"/>
            <p:cNvSpPr/>
            <p:nvPr/>
          </p:nvSpPr>
          <p:spPr>
            <a:xfrm>
              <a:off x="6631560" y="51912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AutoShape 22"/>
            <p:cNvGrpSpPr/>
            <p:nvPr/>
          </p:nvGrpSpPr>
          <p:grpSpPr>
            <a:xfrm>
              <a:off x="2493000" y="2103120"/>
              <a:ext cx="329040" cy="359640"/>
              <a:chOff x="2493000" y="2103120"/>
              <a:chExt cx="329040" cy="359640"/>
            </a:xfrm>
          </p:grpSpPr>
          <p:pic>
            <p:nvPicPr>
              <p:cNvPr id="208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300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9848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22"/>
            <p:cNvSpPr/>
            <p:nvPr/>
          </p:nvSpPr>
          <p:spPr>
            <a:xfrm>
              <a:off x="2522880" y="51228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14240" y="150012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Uzyskanie decyzji o środowiskowych uwarunkowaniach  realizacji przedsięwzięcia wymagane jest dla (art. 71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wsz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 środowisko (grupa 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tencjalni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środowisko (grupa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Wydanie decyzji o środowiskowych uwarunkowaniach następuje przed uzyskaniem decyzji inwestycyjnych (art. 72 ust. 1, pkt 1-13 ustawy OOŚ)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pozwoleniu  na budowę, decyzji o zatwierdzeniu projektu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dowlanego oraz   decyzji o pozwoleniu na wznowienie robót budowla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warunkach zabudowy i zagospodarowania teren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zezwoleniu na realizację  inwestycji drog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linii kolej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autostr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2" name="Prostokąt 12"/>
          <p:cNvSpPr/>
          <p:nvPr/>
        </p:nvSpPr>
        <p:spPr>
          <a:xfrm>
            <a:off x="857160" y="15001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nowne przeprowadzenie oceny oddziaływania przedsięwzięcia na środowisko (art. 88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ostokąt 7"/>
          <p:cNvSpPr/>
          <p:nvPr/>
        </p:nvSpPr>
        <p:spPr>
          <a:xfrm>
            <a:off x="857160" y="2214720"/>
            <a:ext cx="82868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eczność przeprowadzenia ponownej  oceny oddziaływania na środowisko dla przedsięwzięć z grupy I i II, wymagający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zeprowadz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wniosek podmiotu planującego podjęcie realizacji przedsięwzięcia, złożony do organu właściwego do wydania decyzji budowla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konieczność przeprowadzenia OOŚ została stwierdzona przez organ właściwy do wydania decyzji o środowiskowych uwarunkowani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organ właściwy do wydania decyzji budowlanej stwierdzi, że we wniosku o wydanie decyzji zostały dokonane zmiany w stosunku do wymagań określonych w decyzji o środowiskowych uwarunkowaniach – w tym wypadku organ postanowieniem stwierdza obowiązek sporządzenia raportu OOŚ, jednocześnie określając zakres tego rap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nę oddziaływania na środowisko, stanowiącą część postępowania w sprawie wydani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zeprowadz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O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647640" y="1285920"/>
            <a:ext cx="84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gany właściwe do wydania decyzji o środowiskowych uwarunkowaniach (art. 75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7"/>
          <p:cNvSpPr/>
          <p:nvPr/>
        </p:nvSpPr>
        <p:spPr>
          <a:xfrm>
            <a:off x="714240" y="2000160"/>
            <a:ext cx="821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. regionalny dyrektor ochrony środowiska (RDOŚ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należących do grupy I, takich jak: drogi, linie kolejowe, napowietrzne linie elektorenergetyczne, instalacje do przesyłu ropy naftowej, produktów naftowych, substancji chemicznych lub gazu, sztuczne zbiorniki wod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terenach zamknięt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obszarach morski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lasu, niestanowiącego własność Skarbu Państwa, na użytek rol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starost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calania, wymiany lub podziału gru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3300"/>
                </a:solidFill>
                <a:latin typeface="Arial"/>
              </a:rPr>
              <a:t>3. d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yrektor regionalnej dyrekcji lasów państwowyc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zmiany lasu, stanowiącego własność Skarbu Państwa, na użytek rol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. wójt, burmistrz, prezydent mia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pozostałych przedsięwzię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47640" y="164304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14240" y="1857240"/>
            <a:ext cx="82155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że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la którego do wydania decyzji o środowiskowych uwarunkowaniach właściwy jest wójt, burmistrz, prezydent mias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t realizowane przez gmin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ganem właściwym do wydania decyzji o środowiskowych uwarunkowaniach jest wójt, burmistrz, prezydent miasta, na którego obszarze właściwości przedsięwzięcie jest realizow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wykraczającego poza obszar jednego województ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decyzję o środowiskowych uwarunkowaniach wydaje RDOŚ, na którego obszarze właściwości znajduje się największa część terenu, na którym ma być realizowane przedsięwzięcie, w porozumieniu z zainteresowanymi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857160" y="15001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14240" y="2071800"/>
            <a:ext cx="8215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 wykraczającego poza obszar jednej gm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yzję o środowiskowych uwarunkowaniach wydaje wójt, burmistrz, prezydent miasta, na którego obszarze właściwości znajduje się największa część terenu, na którym ma być realizowane przedsięwzięc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orozumieniu z zainteresowanymi wójtami, burmistrzami, prezydentami m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realizowanego w części na terenie zamknięty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la całego przedsięwzięcia decyzję o środowiskowych uwarunkowaniach wydaje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785880" y="157176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ydawanie decyzji o środowiskowych uwarunkowaniach dla dróg lub linii kolejowych, napowietrznych linii elektroenergetycznych, sztucznych zbiorników wodnych, instalacji do przesyłu ropy naftowej, produktów naftowych, substancji chemicznych lub gazu, będących przedsięwzięciami mogącymi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Regionalny Dyrektor ochrony Środow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upa 9"/>
          <p:cNvGrpSpPr/>
          <p:nvPr/>
        </p:nvGrpSpPr>
        <p:grpSpPr>
          <a:xfrm>
            <a:off x="928800" y="3214800"/>
            <a:ext cx="7643880" cy="3214440"/>
            <a:chOff x="928800" y="3214800"/>
            <a:chExt cx="7643880" cy="3214440"/>
          </a:xfrm>
        </p:grpSpPr>
        <p:sp>
          <p:nvSpPr>
            <p:cNvPr id="252" name="AutoShape 16"/>
            <p:cNvSpPr/>
            <p:nvPr/>
          </p:nvSpPr>
          <p:spPr>
            <a:xfrm>
              <a:off x="928800" y="3214800"/>
              <a:ext cx="3646440" cy="10310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ustale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kresu raportu wraz z wnioskiem o wyd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928800" y="4572000"/>
              <a:ext cx="3669840" cy="15001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wojewódzkiego inspektora 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Łącznik prosty 12"/>
            <p:cNvSpPr/>
            <p:nvPr/>
          </p:nvSpPr>
          <p:spPr>
            <a:xfrm>
              <a:off x="2751840" y="4245840"/>
              <a:ext cx="11520" cy="32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Łącznik prosty 13"/>
            <p:cNvSpPr/>
            <p:nvPr/>
          </p:nvSpPr>
          <p:spPr>
            <a:xfrm flipH="1">
              <a:off x="2751840" y="6072120"/>
              <a:ext cx="11520" cy="3571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Łącznik prosty 14"/>
            <p:cNvSpPr/>
            <p:nvPr/>
          </p:nvSpPr>
          <p:spPr>
            <a:xfrm>
              <a:off x="6796080" y="4185000"/>
              <a:ext cx="23040" cy="218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8"/>
            <p:cNvSpPr/>
            <p:nvPr/>
          </p:nvSpPr>
          <p:spPr>
            <a:xfrm>
              <a:off x="4926240" y="3214800"/>
              <a:ext cx="3646440" cy="970200"/>
            </a:xfrm>
            <a:prstGeom prst="flowChartProcess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9bf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wyda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raport w zakresie określo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ustawi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upa 6"/>
          <p:cNvGrpSpPr/>
          <p:nvPr/>
        </p:nvGrpSpPr>
        <p:grpSpPr>
          <a:xfrm>
            <a:off x="785880" y="1714680"/>
            <a:ext cx="8358120" cy="4563720"/>
            <a:chOff x="785880" y="1714680"/>
            <a:chExt cx="8358120" cy="4563720"/>
          </a:xfrm>
        </p:grpSpPr>
        <p:sp>
          <p:nvSpPr>
            <p:cNvPr id="264" name="AutoShape 15"/>
            <p:cNvSpPr/>
            <p:nvPr/>
          </p:nvSpPr>
          <p:spPr>
            <a:xfrm>
              <a:off x="956520" y="2283480"/>
              <a:ext cx="3830040" cy="7833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DOŚ raport w zakres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godnym 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785880" y="3643200"/>
              <a:ext cx="8358120" cy="263520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bd69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opinię do wojewódzki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której także przedstawia stanowisko co  do konieczności przeprowadzenia ponownej ocen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Łącznik prosty 9"/>
            <p:cNvSpPr/>
            <p:nvPr/>
          </p:nvSpPr>
          <p:spPr>
            <a:xfrm flipH="1">
              <a:off x="6751080" y="1714680"/>
              <a:ext cx="1440" cy="19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Łącznik prosty 10"/>
            <p:cNvSpPr/>
            <p:nvPr/>
          </p:nvSpPr>
          <p:spPr>
            <a:xfrm flipH="1">
              <a:off x="2889720" y="1780560"/>
              <a:ext cx="14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Łącznik prosty 11"/>
            <p:cNvSpPr/>
            <p:nvPr/>
          </p:nvSpPr>
          <p:spPr>
            <a:xfrm flipH="1">
              <a:off x="2889720" y="3049200"/>
              <a:ext cx="1440" cy="600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22240" y="15001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wójt, burmistrz lub prezydent mi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7"/>
          <p:cNvGrpSpPr/>
          <p:nvPr/>
        </p:nvGrpSpPr>
        <p:grpSpPr>
          <a:xfrm>
            <a:off x="857160" y="2786040"/>
            <a:ext cx="8001000" cy="3714840"/>
            <a:chOff x="857160" y="2786040"/>
            <a:chExt cx="8001000" cy="3714840"/>
          </a:xfrm>
        </p:grpSpPr>
        <p:sp>
          <p:nvSpPr>
            <p:cNvPr id="276" name="AutoShape 17"/>
            <p:cNvSpPr/>
            <p:nvPr/>
          </p:nvSpPr>
          <p:spPr>
            <a:xfrm>
              <a:off x="930960" y="2810160"/>
              <a:ext cx="3548160" cy="1342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kłada wójtowi, burmistrzow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b prezydentowi miast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niosek o ustalenie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raz z wnioskiem o wydanie decyzj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 środowiskowych uwarunkowaniach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AutoShape 20"/>
            <p:cNvGrpSpPr/>
            <p:nvPr/>
          </p:nvGrpSpPr>
          <p:grpSpPr>
            <a:xfrm>
              <a:off x="5196240" y="2786040"/>
              <a:ext cx="3661920" cy="1386720"/>
              <a:chOff x="5196240" y="2786040"/>
              <a:chExt cx="3661920" cy="1386720"/>
            </a:xfrm>
          </p:grpSpPr>
          <p:pic>
            <p:nvPicPr>
              <p:cNvPr id="278" name="AutoShap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6240" y="2786040"/>
                <a:ext cx="366192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5218200" y="2810160"/>
                <a:ext cx="3622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0000"/>
                    </a:solidFill>
                    <a:latin typeface="Arial"/>
                  </a:rPr>
                  <a:t>Inwestor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zedstawia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ójtowi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burmistrzowi lub prezydentowi miast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niosek o wydanie decyzji o środowiskowych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warunkowaniach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Załącza raport w zakresie określonym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 ustawie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18"/>
            <p:cNvSpPr/>
            <p:nvPr/>
          </p:nvSpPr>
          <p:spPr>
            <a:xfrm>
              <a:off x="857160" y="4555080"/>
              <a:ext cx="3621960" cy="15746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 RDOŚ i powiatowego inspektor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Łącznik prosty 11"/>
            <p:cNvSpPr/>
            <p:nvPr/>
          </p:nvSpPr>
          <p:spPr>
            <a:xfrm flipH="1">
              <a:off x="7066800" y="4152960"/>
              <a:ext cx="720" cy="22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Łącznik prosty 12"/>
            <p:cNvSpPr/>
            <p:nvPr/>
          </p:nvSpPr>
          <p:spPr>
            <a:xfrm flipH="1">
              <a:off x="2631240" y="4152240"/>
              <a:ext cx="24480" cy="39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Łącznik prosty 13"/>
            <p:cNvSpPr/>
            <p:nvPr/>
          </p:nvSpPr>
          <p:spPr>
            <a:xfrm>
              <a:off x="2631240" y="61653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2143080"/>
            <a:ext cx="84297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892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awnym instrumentem ochrony środowis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ewencyjnym instrumentem ochrony środowisk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pomagającym proces podejmowania decyzji 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iesieniu do planowanych przedsięwzięć mogący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wierać znaczący wpływ na środowisk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narzędziem  umożliwiającym pełną i obiektywn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yfikację możliwych zagrożeń, zmniejszając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zyko popełniania błędów, pozwalającym  chroni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oby naturalne, przeciwdziałać degradacji środowi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ronić zdrowie ludz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upa 14"/>
          <p:cNvGrpSpPr/>
          <p:nvPr/>
        </p:nvGrpSpPr>
        <p:grpSpPr>
          <a:xfrm>
            <a:off x="857160" y="1643040"/>
            <a:ext cx="8091720" cy="4532400"/>
            <a:chOff x="857160" y="1643040"/>
            <a:chExt cx="8091720" cy="4532400"/>
          </a:xfrm>
        </p:grpSpPr>
        <p:sp>
          <p:nvSpPr>
            <p:cNvPr id="290" name="AutoShape 21"/>
            <p:cNvSpPr/>
            <p:nvPr/>
          </p:nvSpPr>
          <p:spPr>
            <a:xfrm>
              <a:off x="1135440" y="2304360"/>
              <a:ext cx="3934440" cy="7768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wójtowi, burmistrzowi lu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zydentowi miasta raport w zakresie zgod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"/>
            <p:cNvSpPr/>
            <p:nvPr/>
          </p:nvSpPr>
          <p:spPr>
            <a:xfrm>
              <a:off x="857160" y="3562200"/>
              <a:ext cx="8091720" cy="261324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cdfb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warunków realizacji przedsięwzięcia do RDOŚ i o opini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powiatow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 w której także przedstawia stanowisko co  do konieczn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ponownej oceny 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Łącznik prosty 17"/>
            <p:cNvSpPr/>
            <p:nvPr/>
          </p:nvSpPr>
          <p:spPr>
            <a:xfrm flipH="1">
              <a:off x="6841800" y="1643040"/>
              <a:ext cx="1440" cy="191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Łącznik prosty 18"/>
            <p:cNvSpPr/>
            <p:nvPr/>
          </p:nvSpPr>
          <p:spPr>
            <a:xfrm>
              <a:off x="3083400" y="1774440"/>
              <a:ext cx="18360" cy="52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Łącznik prosty 19"/>
            <p:cNvSpPr/>
            <p:nvPr/>
          </p:nvSpPr>
          <p:spPr>
            <a:xfrm flipH="1">
              <a:off x="3102120" y="308196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785880" y="13572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OŚ w ramach postępowania  w sprawie wydania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otencjalni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a 7"/>
          <p:cNvGrpSpPr/>
          <p:nvPr/>
        </p:nvGrpSpPr>
        <p:grpSpPr>
          <a:xfrm>
            <a:off x="857160" y="2428920"/>
            <a:ext cx="8143920" cy="4083480"/>
            <a:chOff x="857160" y="2428920"/>
            <a:chExt cx="8143920" cy="4083480"/>
          </a:xfrm>
        </p:grpSpPr>
        <p:sp>
          <p:nvSpPr>
            <p:cNvPr id="302" name="AutoShape 15"/>
            <p:cNvSpPr/>
            <p:nvPr/>
          </p:nvSpPr>
          <p:spPr>
            <a:xfrm>
              <a:off x="857160" y="2428920"/>
              <a:ext cx="7315200" cy="9144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ójtowi, burmistrzowi lub prezydentowi miasta wniosek o wydanie decyzj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 Załącza kartę informacyjną przedsięwzięcia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Łącznik prosty 9"/>
            <p:cNvSpPr/>
            <p:nvPr/>
          </p:nvSpPr>
          <p:spPr>
            <a:xfrm flipH="1">
              <a:off x="4500000" y="3343320"/>
              <a:ext cx="1404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rostokąt 10"/>
            <p:cNvSpPr/>
            <p:nvPr/>
          </p:nvSpPr>
          <p:spPr>
            <a:xfrm>
              <a:off x="7429680" y="4500720"/>
              <a:ext cx="1571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CREE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łuży stwierdzeniu przez właściwy organ, czy przeprowadzenie OOŚ dla planowanego przedsięwzięci jest koniecz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Łącznik prosty 11"/>
            <p:cNvSpPr/>
            <p:nvPr/>
          </p:nvSpPr>
          <p:spPr>
            <a:xfrm flipH="1">
              <a:off x="4571280" y="5144760"/>
              <a:ext cx="14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Łącznik łamany 12"/>
            <p:cNvCxnSpPr/>
            <p:nvPr/>
          </p:nvCxnSpPr>
          <p:spPr>
            <a:xfrm>
              <a:off x="2714040" y="5644080"/>
              <a:ext cx="3786840" cy="2160"/>
            </a:xfrm>
            <a:prstGeom prst="bentConnector3">
              <a:avLst>
                <a:gd name="adj1" fmla="val 49762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307" name="Text Box 22"/>
            <p:cNvSpPr/>
            <p:nvPr/>
          </p:nvSpPr>
          <p:spPr>
            <a:xfrm>
              <a:off x="207144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85792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6"/>
          <p:cNvSpPr/>
          <p:nvPr/>
        </p:nvSpPr>
        <p:spPr>
          <a:xfrm>
            <a:off x="857160" y="4000680"/>
            <a:ext cx="6500880" cy="1134720"/>
          </a:xfrm>
          <a:prstGeom prst="flowChartProcess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ójt, burmistrz, prezydent mia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wraca się do RDOŚ i powiatow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pektora sanitarnego o opinię co do potrzeby przeprowadzenia oce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działywania przedsięwzięcia na środowisko i ewentualnego zakresu rapor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Łącznik prosty 16"/>
          <p:cNvSpPr/>
          <p:nvPr/>
        </p:nvSpPr>
        <p:spPr>
          <a:xfrm>
            <a:off x="2714760" y="564516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Łącznik prosty 17"/>
          <p:cNvSpPr/>
          <p:nvPr/>
        </p:nvSpPr>
        <p:spPr>
          <a:xfrm flipH="1">
            <a:off x="6500880" y="564372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upa 6"/>
          <p:cNvGrpSpPr/>
          <p:nvPr/>
        </p:nvGrpSpPr>
        <p:grpSpPr>
          <a:xfrm>
            <a:off x="714240" y="1500120"/>
            <a:ext cx="8429760" cy="4786560"/>
            <a:chOff x="714240" y="1500120"/>
            <a:chExt cx="8429760" cy="4786560"/>
          </a:xfrm>
        </p:grpSpPr>
        <p:sp>
          <p:nvSpPr>
            <p:cNvPr id="318" name="Łącznik prosty 7"/>
            <p:cNvSpPr/>
            <p:nvPr/>
          </p:nvSpPr>
          <p:spPr>
            <a:xfrm flipH="1">
              <a:off x="7286760" y="1500120"/>
              <a:ext cx="1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941040" y="1701720"/>
              <a:ext cx="3987720" cy="1352520"/>
            </a:xfrm>
            <a:prstGeom prst="rect">
              <a:avLst/>
            </a:prstGeom>
            <a:gradFill rotWithShape="0">
              <a:gsLst>
                <a:gs pos="0">
                  <a:srgbClr val="ceceef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drod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ostanowien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twierdza obowiązek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oceny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 środowisko dla planowan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 określa zakres raport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na postanowienie służy zażalenie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143320" y="1785600"/>
              <a:ext cx="4000680" cy="2063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d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daje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postanowieni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w którym stwierdza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k potrzeby przeprowadzania oceny 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t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)   wydaje decyzję o środowisk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   podaje do publicznej wiadomości informac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940320" y="3351960"/>
              <a:ext cx="3988440" cy="66024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aport w zakresie zgodny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714240" y="4232520"/>
              <a:ext cx="8373240" cy="20541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przedsięwzięcia  i o możliwoś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poznania się z dokumentacją, składania uwag i wniosków oraz otwartej rozprawie dla społeczeństwa, jeżeli miał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ć przeprowadzo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 występuje o uzgodnienie warunków realizacji przedsięwzięcia do RDOŚ i o opinię do powiatowego inspekt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  analizuje zgromadzony materiał dowodowy i wydaje decyzję o środowiskowych uwarunkowaniach, w które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kże przedstawia stanowisko co  do konieczności przeprowadzenia ponownej oceny oddziaływania 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środowisk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)      podaje do publicznej wiadomości informację o wydaniu decyzji o środowiskowych uwarunkowaniac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Łącznik prosty 12"/>
            <p:cNvSpPr/>
            <p:nvPr/>
          </p:nvSpPr>
          <p:spPr>
            <a:xfrm flipH="1">
              <a:off x="2920680" y="3971160"/>
              <a:ext cx="144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2"/>
          <p:cNvSpPr/>
          <p:nvPr/>
        </p:nvSpPr>
        <p:spPr>
          <a:xfrm>
            <a:off x="2143080" y="121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664380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Łącznik prosty 15"/>
          <p:cNvSpPr/>
          <p:nvPr/>
        </p:nvSpPr>
        <p:spPr>
          <a:xfrm flipH="1">
            <a:off x="2857680" y="14288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Łącznik prosty 16"/>
          <p:cNvSpPr/>
          <p:nvPr/>
        </p:nvSpPr>
        <p:spPr>
          <a:xfrm flipH="1">
            <a:off x="2928960" y="3054240"/>
            <a:ext cx="64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857160" y="185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ażne jest uzasadnienie postanowienia  o obowiązku lub braku obowiązku przeprowadzenia OO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57160" y="34290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sadnienie postanowień o obowiązku przeprowadzenia OO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o zakresie raportu lub o braku potrzeby przeprowadzenia OOŚ powinny zawierać informacje o uwarunkowaniach, o których mowa w art. 63 ust. 1 ustawy OO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40" name="Prostokąt 13"/>
          <p:cNvSpPr/>
          <p:nvPr/>
        </p:nvSpPr>
        <p:spPr>
          <a:xfrm>
            <a:off x="71424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żn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st uzasadnienie decyzji o środowiskowych uwarunkowa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2"/>
          <p:cNvSpPr/>
          <p:nvPr/>
        </p:nvSpPr>
        <p:spPr>
          <a:xfrm>
            <a:off x="857160" y="2143080"/>
            <a:ext cx="8001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ostała przeprowadzona OOŚ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przeprowadzonym  postępowaniu wymagającym udziału społeczeństwa  oraz o tym, w    jaki sposób zostały wzięte pod uwagę, i w jakim zakresie zostały uwzględnione uwagi i wnioski zgłoszone w związku z udziałem społeczeńst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, w jaki sposób zostały wzięte pod uwagę i w jakim zakresie zostały  uwzględn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stalenia zawarte w raporcie OO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zgodnienia RDOŚ oraz opinie P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yniki postępowania w sprawie transgranicznego oddziaływania na środowisko, jeżeli  zostało      przeprowadz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e została przeprowadzona OOŚ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uwarunkowaniach, o  których mowa w art. 63 ust. 1 ustawy OOŚ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zględnionych przy stwierdzaniu braku potrzeby przeprowadzenia OOŚ przedsięwzięcia na środowisk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a 8"/>
          <p:cNvGrpSpPr/>
          <p:nvPr/>
        </p:nvGrpSpPr>
        <p:grpSpPr>
          <a:xfrm>
            <a:off x="1000080" y="2571840"/>
            <a:ext cx="7715160" cy="3786120"/>
            <a:chOff x="1000080" y="2571840"/>
            <a:chExt cx="7715160" cy="3786120"/>
          </a:xfrm>
        </p:grpSpPr>
        <p:sp>
          <p:nvSpPr>
            <p:cNvPr id="348" name="AutoShape 15"/>
            <p:cNvSpPr/>
            <p:nvPr/>
          </p:nvSpPr>
          <p:spPr>
            <a:xfrm>
              <a:off x="1000080" y="2571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staroście wniosek o pozwolenie na budowę. Załącza raport oraz decyz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1000080" y="3879720"/>
              <a:ext cx="7715160" cy="757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do  RDOŚ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wiesza postępowanie do czasu zakończenia oceny oddziaływania na środowisk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656600" y="353556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656600" y="4705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1000080" y="5118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d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osty o zapewnienie możliwości udziału społeczeństw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iatowego inspektora sanitarnego o opinię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4656600" y="6082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rostokąt 16"/>
          <p:cNvSpPr/>
          <p:nvPr/>
        </p:nvSpPr>
        <p:spPr>
          <a:xfrm>
            <a:off x="857160" y="1357200"/>
            <a:ext cx="8286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pozwoleniu na budowę dla przedsięwzięć mogących znacząco oddziaływać na środowisko, dla których w decyzji środowiskowej stwierdzono konieczność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ponownej oceny oddziaływania na środowisk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upa 19"/>
          <p:cNvGrpSpPr/>
          <p:nvPr/>
        </p:nvGrpSpPr>
        <p:grpSpPr>
          <a:xfrm>
            <a:off x="928800" y="1714680"/>
            <a:ext cx="7643880" cy="4371840"/>
            <a:chOff x="928800" y="1714680"/>
            <a:chExt cx="7643880" cy="4371840"/>
          </a:xfrm>
        </p:grpSpPr>
        <p:sp>
          <p:nvSpPr>
            <p:cNvPr id="361" name="AutoShape 26"/>
            <p:cNvSpPr/>
            <p:nvPr/>
          </p:nvSpPr>
          <p:spPr>
            <a:xfrm>
              <a:off x="4557600" y="171468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7"/>
            <p:cNvSpPr/>
            <p:nvPr/>
          </p:nvSpPr>
          <p:spPr>
            <a:xfrm>
              <a:off x="928800" y="2130840"/>
              <a:ext cx="7643880" cy="13878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 wniosków oraz o rozprawie otwartej dla społeczeństwa, jeżeli ma być przeprowadzona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kazuje RDOŚ wnioski i uwagi społeczeństwa oraz protokół z rozprawy, jeżeli został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8"/>
            <p:cNvSpPr/>
            <p:nvPr/>
          </p:nvSpPr>
          <p:spPr>
            <a:xfrm>
              <a:off x="4557600" y="35881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9"/>
            <p:cNvSpPr/>
            <p:nvPr/>
          </p:nvSpPr>
          <p:spPr>
            <a:xfrm>
              <a:off x="928800" y="4074120"/>
              <a:ext cx="7643880" cy="6937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postanowienie w sprawie uzgodnienia warun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izacji przedsięwzięc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0"/>
            <p:cNvSpPr/>
            <p:nvPr/>
          </p:nvSpPr>
          <p:spPr>
            <a:xfrm>
              <a:off x="4557600" y="48373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1"/>
            <p:cNvSpPr/>
            <p:nvPr/>
          </p:nvSpPr>
          <p:spPr>
            <a:xfrm>
              <a:off x="928800" y="5184360"/>
              <a:ext cx="7643880" cy="9021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decyzję o pozwoleniu na budowę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4"/>
          <p:cNvSpPr/>
          <p:nvPr/>
        </p:nvSpPr>
        <p:spPr>
          <a:xfrm>
            <a:off x="241128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jenci realizujący  projek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charakterze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frastruktural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ymieniony w Aneksie I albo II dyrektywy OOŚ,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bądź projekt, który może znacząco wpływać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(grupa I, II lub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 rot="5400000">
            <a:off x="4167720" y="3545640"/>
            <a:ext cx="1150920" cy="485640"/>
          </a:xfrm>
          <a:prstGeom prst="rightArrow">
            <a:avLst>
              <a:gd name="adj1" fmla="val 50000"/>
              <a:gd name="adj2" fmla="val 5924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14"/>
          <p:cNvSpPr/>
          <p:nvPr/>
        </p:nvSpPr>
        <p:spPr>
          <a:xfrm>
            <a:off x="2484360" y="45813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 3.1. (Ia) (wypełniony w pełnym zakresie) i załącznik 3.2. (Ib) oraz dokumentacja z przeprowadzonego screeningu wraz z dokumentacją z przeprowadzonej OOŚ jeżeli była konie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4"/>
          <p:cNvSpPr/>
          <p:nvPr/>
        </p:nvSpPr>
        <p:spPr>
          <a:xfrm>
            <a:off x="226836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jenci realizujący  projekt o charakterze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nfrastrukturalnym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ie wymienionym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w Aneksie I albo II dyrektywy OOŚ,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ądź projekt, który nie wpływa znacząco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 rot="5400000">
            <a:off x="4023360" y="3690000"/>
            <a:ext cx="1150920" cy="486000"/>
          </a:xfrm>
          <a:prstGeom prst="rightArrow">
            <a:avLst>
              <a:gd name="adj1" fmla="val 50000"/>
              <a:gd name="adj2" fmla="val 5920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rostokąt 14"/>
          <p:cNvSpPr/>
          <p:nvPr/>
        </p:nvSpPr>
        <p:spPr>
          <a:xfrm>
            <a:off x="226836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łącznik 3.1. (Ia)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(wypełniony w ograniczonym  zakresie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załącznik 3.2. (Ib) oraz dokumentacja (jeżeli została wyd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8" name="Prostokąt 14"/>
          <p:cNvSpPr/>
          <p:nvPr/>
        </p:nvSpPr>
        <p:spPr>
          <a:xfrm>
            <a:off x="785880" y="16430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RZ DO WNIOSKU O DOFINANSOWANIE W ZAKRESIE OCENY ODDZIAŁYWANIA NA ŚRODOWI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rostokąt 14"/>
          <p:cNvSpPr/>
          <p:nvPr/>
        </p:nvSpPr>
        <p:spPr>
          <a:xfrm>
            <a:off x="785880" y="307188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twórz 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14240" y="2286000"/>
            <a:ext cx="8429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żliwia identyfikację istotnych skutków środowiskowych, jakie mogą powsta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oszczególnych fazach realizacji planowanego przedsięwzięcia a w konsekwencji podejmowanie już na etapie planowania, projektowania a następnie realizacji przedsięwzięcia, przemyślanych i odpowiednio dobranych działań mających na celu eliminowanie  wszystkich negatywnych skutków środowiskowych lub ich ograniczanie, jeżeli pełne zapobieganie nie jest możli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785880" y="1500120"/>
            <a:ext cx="8215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nkcje w przypadku niezgod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57160" y="2357280"/>
            <a:ext cx="8001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wiązku z dofinansowaniem przedsięwzięć ze środków UE należy zapewnić przeprowadzenie  postępowania OOŚ uwzględniając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zasadę pierwszeństwa prawa wspólnotowego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bowiązek prowspólnotowej wykładni przepisów prawa kraj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dura oceny oddziaływania na środowisko przeprowadzona niezgodnie z prawem wspólnotowym oznacza niekwalifikowalność wydatków na daną inwestycj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785880" y="3143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4240" y="2143080"/>
            <a:ext cx="84297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YMAGANIA DYREKTY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 KONWENCJI MIĘDZYNARODOW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 ZAKRESIE OCEN ODDZIAŁYWANIA NA ŚRODOWI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42960" y="15717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IZACJA PROJEKTÓW INFRASTRUKTURALNYCH FINANSOWANYCH ZE ŚRODKÓW UNIJNYCH  MUSI BYĆ ZGODNA Z WYMAGANIAMI DYREKTYW UNIJ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57120" y="2500200"/>
            <a:ext cx="8572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85/337/EWG z dnia 27 czerwca 1985r. w sprawie oceny skutków wywieranych przez niektóre przedsięwzięcia publiczne i prywatne na środowisko natural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owelizowana Dyrektywą Rady 97/11/WE z dnia 3 marca 1997r.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92/43/EWG z dnia 21 maja 1992r. w sprawie ochrony siedlisk przyrodniczych oraz dzikiej fauny i fl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iedliskow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79/409/EWG z dnia 2 kwietnia 1979r. w sprawie ochrony dzikiego ptactw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Ptas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11"/>
          <p:cNvSpPr/>
          <p:nvPr/>
        </p:nvSpPr>
        <p:spPr>
          <a:xfrm>
            <a:off x="571680" y="1701720"/>
            <a:ext cx="8143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1/42/WE z dnia 27 czerwca 2001r. w sprawie  oceny wpływu niektórych planów i programów na środowisko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OO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4/WE z dnia 28 stycznia 2003r. w sprawie publicznego dostępu do informacji dotyczących środowiska i uchylająca dyrektywę Rady 90/313/EW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35/WE z dnia z dnia 26 maja 2003r. przewidująca udział społeczeństwa w odniesieniu do sporządzania niektórych planów i programów w zakresie środowiska oraz zmieniająca w odniesieniu do udziału społeczeństwa o dostępu do wymiaru sprawiedliwości dyrektywy Rady 85/337/EWG i 96/61/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42960" y="3286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LUCZOWE AKTY PRAWA KRAJ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501480" y="164304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DSTAWOWE AKTY PRAWA KRAJ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2960" y="200016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27 kwietnia 2001r. Prawo ochrony środow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j. Dz. U.  z 2008r. Nr 25, poz. 150 i Nr 111, poz. 7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ywały do d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listopada 2008r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3 października 2008r. o udostępnianiu informacji o środowisku  i jego ochronie, udziale społeczeństwa w ochronie środowiska oraz ocenach oddziaływania na środowisk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z. U. z 2008r. Nr 199, poz. 122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ujące od dnia 15 listopada 2008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05:53Z</dcterms:created>
  <dc:creator>monika.stanczak</dc:creator>
  <dc:description/>
  <dc:language>en-US</dc:language>
  <cp:lastModifiedBy>x</cp:lastModifiedBy>
  <dcterms:modified xsi:type="dcterms:W3CDTF">2009-10-21T21:49:55Z</dcterms:modified>
  <cp:revision>39</cp:revision>
  <dc:subject/>
  <dc:title>Slajd 1</dc:title>
</cp:coreProperties>
</file>